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348-D0E6-4774-A9ED-A9E59F23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080-3F84-4540-8370-6E12816C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40C-7BDF-49BC-9A30-85D71CFB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85E-3D17-4CA0-98FA-B433768B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820-A718-4096-88D6-E20A8560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32C-4DA6-4FB9-A972-3EDFDADE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BE7-557A-49E5-932F-1D4339DE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EEA-734C-463C-B072-B02B5F7A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950-DB1E-4CD4-94B1-7F705986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2DD-A484-4448-B8A2-C299F569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A8A-18BD-4B0E-8590-94265028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D18-40CC-426E-8D33-4953600A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B186-81DE-408D-AB37-E51AEFFB7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eath Ho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can you hold your brea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hold your breath better when you are sitting down or standing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people will hold their breath better when they are sitting down than when they are standing up because when you are sitting down you are more rela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 and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376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ther all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l the people I am testing what they are going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a person while he/she is stan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a person while he/she is s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r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that person again standing and s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r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their average for sitting and standing sepa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eat procedure with the rest of m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ther you are sitting or 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ich you hold your breath longer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38280" y="1150920"/>
          <a:ext cx="4114800" cy="5402160"/>
        </p:xfrm>
        <a:graphic>
          <a:graphicData uri="http://schemas.openxmlformats.org/drawingml/2006/table">
            <a:tbl>
              <a:tblPr/>
              <a:tblGrid>
                <a:gridCol w="1219320"/>
                <a:gridCol w="1523880"/>
                <a:gridCol w="1371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Standing 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Sitting 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Aub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39.7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29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Dani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39.6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43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Aid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32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3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Lay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9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76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Log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60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51.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Z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50.1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51.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Ab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36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36.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Ta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24.4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25.5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Wya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65.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96.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Rach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31.6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a251a"/>
                          </a:solidFill>
                          <a:latin typeface="Arial"/>
                        </a:rPr>
                        <a:t>37.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934320" y="226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1430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1066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6080" y="835200"/>
            <a:ext cx="35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69160" y="107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ypothesis was mostly correct. 3/5 or 60% of the people held their breath better when they were sitting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19:44Z</dcterms:created>
  <dc:creator>STERLING  USD376</dc:creator>
  <dc:description/>
  <dc:language>en-US</dc:language>
  <cp:lastModifiedBy>USD376</cp:lastModifiedBy>
  <dcterms:modified xsi:type="dcterms:W3CDTF">2010-02-09T15:56:49Z</dcterms:modified>
  <cp:revision>8</cp:revision>
  <dc:subject/>
  <dc:title>Breath Holding</dc:title>
</cp:coreProperties>
</file>